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0DB9-BC03-42FA-A6B2-30BD4696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09B1-8C42-4BCB-9B86-439B67E6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E707-1DA7-4F8C-AE07-0786D454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5206-1596-4492-AFA3-EE6A3120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C90F-FF2E-450E-872F-FB2F5E0A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CCF-A8C3-4037-A96A-A508EBA1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C9C7-0494-4EC8-B415-E92126ED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4B7D-F8F2-4D5C-AB42-6F4E7109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2DF9-737E-417F-9F10-752302B8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4EC7-3ED7-4C8C-AEA7-A7BF19DC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2954-B621-43B1-9EED-2D19C0CE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7C03-894C-47BD-82C3-D03244B8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4AF4-DC6F-436E-9004-0B02DE496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7 il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4 de octubre del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osito # 10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refieres jugar béisbol o futb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b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1914480" cy="1905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43200" y="4038480"/>
            <a:ext cx="1828800" cy="1667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800600" y="4114800"/>
            <a:ext cx="2266920" cy="1569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77240" y="3276720"/>
            <a:ext cx="2066760" cy="2361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2971800" y="380952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638320" y="419076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05720" y="5562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4120" y="609480"/>
            <a:ext cx="2028600" cy="2257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2581200" cy="1771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57200" y="4697280"/>
            <a:ext cx="2895480" cy="2160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>
            <a:off x="4876560" y="1523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2362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56600" y="4191120"/>
            <a:ext cx="1787400" cy="1484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304920" y="152280"/>
            <a:ext cx="2724120" cy="2567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838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609120" y="8380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Historieta 3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14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la hoja distribuida en c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276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22:03:13Z</dcterms:created>
  <dc:creator>Helen Zumaeta</dc:creator>
  <dc:description/>
  <dc:language>en-US</dc:language>
  <cp:lastModifiedBy>Helen Zumaeta</cp:lastModifiedBy>
  <dcterms:modified xsi:type="dcterms:W3CDTF">2012-10-03T22:22:17Z</dcterms:modified>
  <cp:revision>2</cp:revision>
  <dc:subject/>
  <dc:title>Me llamo _________ Clase 7 il La fecha es el 4 de octubre del 2012</dc:title>
</cp:coreProperties>
</file>